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64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3160"/>
            <a:ext cx="85964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47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0" y="2101320"/>
            <a:ext cx="41947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3160"/>
            <a:ext cx="41947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4400" y="4583160"/>
            <a:ext cx="41947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676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720" y="2101320"/>
            <a:ext cx="27676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2360" y="2101320"/>
            <a:ext cx="27676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3160"/>
            <a:ext cx="27676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720" y="4583160"/>
            <a:ext cx="27676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2360" y="4583160"/>
            <a:ext cx="27676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472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4400" y="2101320"/>
            <a:ext cx="419472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59644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47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4400" y="2101320"/>
            <a:ext cx="419472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3160"/>
            <a:ext cx="41947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472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4400" y="2101320"/>
            <a:ext cx="41947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0" y="4583160"/>
            <a:ext cx="41947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47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4400" y="2101320"/>
            <a:ext cx="41947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3160"/>
            <a:ext cx="85964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64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338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5920" indent="-21276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7560" indent="-206280">
              <a:spcAft>
                <a:spcPts val="1338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560" indent="-20808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9560" indent="-20808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9560" indent="-20808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3600" y="45720"/>
            <a:ext cx="860724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uthentication and Key 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7320" y="590400"/>
            <a:ext cx="860760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lexibility in credent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58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odern, publically analysed/available cryptographic primi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58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reshness guarant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58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F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58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58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dentity hiding for supplicant/end-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58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o key re-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58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ast re-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58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ast hand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58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fficiency not an overarching concer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5920" indent="-212760">
              <a:spcAft>
                <a:spcPts val="774"/>
              </a:spcAft>
              <a:buClr>
                <a:srgbClr val="000000"/>
              </a:buClr>
              <a:buSzPct val="41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rotocol runs only 1/2^N-1 packets, on a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DOS res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0">
              <a:spcAft>
                <a:spcPts val="1049"/>
              </a:spcAft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edentials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78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cal security policy dictates types of credentials used by end-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gacy authentication compatibility extremely important in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rname/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kens (SecurID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.509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78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gorithms must provide confidentiality and integrity of the authentication and key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blic-key encryption/sig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FS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-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esh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78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cryptographic primitives require strong random material that is “fresh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a protocol issue, per se, but a design requirement noneth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78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h sides of authentication/key agreement must be certain of identity of other pa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mmetric RSA/DSA schemes (public-keys on both s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ymmetric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gacy on end-user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SA/DSA on authenticator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dentity h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78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ortant to hide end-user identity in some situations (public shared networks, for examp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TINCT from hiding MAC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PSEC has gone down this road, and has much exper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s easy as it sounds—active attacks make it ha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st rekey/fast hand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78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bility to create fresh keying material without undergoing slow authentication path (requiring username/password again, for examp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mobile environments, ability to transition without re-doing initial authent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78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PU efficiency not a serious concern, since this protocol will be used relatively infrequ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-the-wire efficiency may be important in low-bandwidth scenarios, but again protocol is not run that often, compared to MACs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OS res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78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key-agreement protocols fertile ground for DOS atta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to other schemes (IKE, for example) to provide guid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280" indent="-317520">
              <a:spcAft>
                <a:spcPts val="133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perfect anti-DOS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rease unpleasantnesss for 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4040"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ct and throw away bogosity at the earliest, cheapest point in the protoc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lors Sala</cp:lastModifiedBy>
  <dcterms:modified xsi:type="dcterms:W3CDTF">2003-10-03T20:07:10Z</dcterms:modified>
  <cp:revision>1</cp:revision>
  <dc:subject/>
  <dc:title>Authentication and Key Agreement</dc:title>
</cp:coreProperties>
</file>