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2B9-0999-4833-833B-353D5CBC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588-C2E7-4C98-9D67-BF03C51B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181B-50D2-4475-81F0-7C7377B4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84E-0529-4971-A194-AAA28582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0CF-5F59-41A6-A278-E990B6B2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338-4CAE-4CAA-ACD7-29B1A0F5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192-5D46-4B6B-B2A5-CA0C4F3A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796-DCCB-44DD-8E8F-C09B6B15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899-C72E-4BF3-882D-DE5ABF21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4E3-3086-4CE2-B411-576986F9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858-A46A-45B9-B51B-C726D229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B9A-C1EF-40C2-BBB0-71985CA1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93AA-710E-4A92-A417-A63DDA9DC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001-Month-Day-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HH: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ex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: Move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Seconde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46:55Z</dcterms:created>
  <dc:creator>Khaled Amer</dc:creator>
  <dc:description/>
  <dc:language>en-US</dc:language>
  <cp:lastModifiedBy>Cisco User</cp:lastModifiedBy>
  <dcterms:modified xsi:type="dcterms:W3CDTF">2001-05-24T20:02:07Z</dcterms:modified>
  <cp:revision>8</cp:revision>
  <dc:subject/>
  <dc:title>Motions for Harmen</dc:title>
</cp:coreProperties>
</file>