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D75-41FC-4C03-BFB5-A6581C65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160-1BA4-4C62-8AD1-C0B9B152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A98-EFF0-4AE6-A4EE-01DAABA8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175-F1E6-41C4-B6D8-956FB995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87E-66BE-475E-BA72-88FAB8D3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438-E01C-45DE-9EC0-37AB5258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2EC-1E05-42FD-9657-A28F360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19D-A39A-4DC7-9E8E-3D32B90E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86E-20D3-4D59-99AF-438E414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509-B44C-455A-BF89-DA982376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643-182B-4F91-8AD1-2F40080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965-B2CA-4E1F-B7E8-EEC877F6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506C-19C5-48DC-8274-56BF43DD1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001-Month-Day-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HH: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ex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: Mov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econde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46:55Z</dcterms:created>
  <dc:creator>Khaled Amer</dc:creator>
  <dc:description/>
  <dc:language>en-US</dc:language>
  <cp:lastModifiedBy>Cisco User</cp:lastModifiedBy>
  <dcterms:modified xsi:type="dcterms:W3CDTF">2001-05-24T20:02:07Z</dcterms:modified>
  <cp:revision>8</cp:revision>
  <dc:subject/>
  <dc:title>Motions for Harmen</dc:title>
</cp:coreProperties>
</file>