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590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EE 802.17 RPRW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mllieee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419040" cy="4762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6248520" y="6553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302680" y="0"/>
            <a:ext cx="84132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10666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itle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ide 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llet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nted poi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ly indented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ly really indented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4T01:17:08Z</dcterms:created>
  <dc:creator>Michael Takefman</dc:creator>
  <dc:description/>
  <dc:language>en-US</dc:language>
  <cp:lastModifiedBy>Cisco User</cp:lastModifiedBy>
  <cp:lastPrinted>2000-12-07T16:39:27Z</cp:lastPrinted>
  <dcterms:modified xsi:type="dcterms:W3CDTF">2001-05-24T20:14:25Z</dcterms:modified>
  <cp:revision>35</cp:revision>
  <dc:subject/>
  <dc:title>IEEE 802 LMSC Resilient Packet Ring Study Group Status Report  Mike Takefman  Chair of RPRSG www.ieee802.org/rprsg tak@cisco.com</dc:title>
</cp:coreProperties>
</file>