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6DBC-2CD9-4BAC-8CB3-5E82CF580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ED68-1137-4056-95BB-3A458244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7206-FCDF-4EFB-B39B-DCBA2C723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CF8C-59F0-47BF-82DA-5CBEF60B8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B72B-0964-42BE-86A5-FCDE71F61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1CDC-6EFD-41F8-A72D-43A0B3C1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8571-7009-4BF2-950E-A5994D66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92BD-A457-4612-AF83-138B0841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E3A3-3F87-4B14-8734-ADEF4A82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440" y="38052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E658-13BC-4259-A5C5-3F1D4E9F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D54A-0671-4E36-AE4B-DB95F762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41CA-F5B5-4E73-8920-67C04D38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1428-F8F5-494B-A95F-F539F7E2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C195-81EA-4417-8009-44C1CC57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3C68-4D18-45B0-A3D9-B446EB88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E86F-D191-43E4-B0E3-CFE7D3A84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C24B-84C8-40F9-8794-33112D6BC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6F09-3A0E-4621-97AB-23AA955F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42C9-FBF4-4307-9E7B-3EF46DA6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FBDA-0F86-4819-B1A3-6AA87B61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38052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BCED-1645-438C-AB59-8CD25C51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7A42-6E6E-4536-A8C2-EBEC599A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50D7-3F80-498D-A961-D19803FE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AB2E-0892-44EB-B1A5-BE833CFE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Khaled A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arch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EEE 802 Study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on QoS/F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6465-A35D-4ABA-A27A-3E634980D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2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18960" cy="1174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63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324480"/>
            <a:ext cx="9142560" cy="0"/>
          </a:xfrm>
          <a:prstGeom prst="line">
            <a:avLst/>
          </a:prstGeom>
          <a:ln w="507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457200" y="2057400"/>
            <a:ext cx="8152920" cy="1599840"/>
            <a:chOff x="457200" y="2057400"/>
            <a:chExt cx="8152920" cy="1599840"/>
          </a:xfrm>
        </p:grpSpPr>
        <p:sp>
          <p:nvSpPr>
            <p:cNvPr id="45" name=""/>
            <p:cNvSpPr/>
            <p:nvPr/>
          </p:nvSpPr>
          <p:spPr>
            <a:xfrm>
              <a:off x="2886480" y="205740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11960" y="222264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71280" y="244332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277344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3DAA-5E06-41FA-911D-15CEA4E5D96A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EBAD-8C03-4E11-AEEE-1533A1F4A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IEEE 802</a:t>
            </a:r>
            <a:br>
              <a:rPr sz="4400"/>
            </a:b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QoS/FC Study Group </a:t>
            </a:r>
            <a:br>
              <a:rPr sz="4400"/>
            </a:b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General Information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79440" y="3774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05120" y="3505320"/>
            <a:ext cx="51051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Khaled A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hairm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EEE 80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ecutive Committee Study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QoS/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arch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Analysis Work Needed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ing work will be needed to simu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network environments and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ed enhancements or new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ous traffic strea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of proposed layer 2 solutions with layer 4 flow control (especially TC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of LAN/WAN enviro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of time-sensitive streams and traditional data str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8EBA-6E2D-4EA7-87D4-2AD7FD151C1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A6A83C-1D00-45A3-921A-CF18D72B10F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Meetings Held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EEE 802 Plenary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 1999 - Albuquer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im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 1999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ern Flor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EEE 802 Plenary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 1999 - Austin, T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enciline" descr=""/>
          <p:cNvPicPr/>
          <p:nvPr/>
        </p:nvPicPr>
        <p:blipFill>
          <a:blip r:embed="rId1"/>
          <a:stretch/>
        </p:blipFill>
        <p:spPr>
          <a:xfrm>
            <a:off x="2438280" y="2971800"/>
            <a:ext cx="3962520" cy="357120"/>
          </a:xfrm>
          <a:prstGeom prst="rect">
            <a:avLst/>
          </a:prstGeom>
          <a:ln w="0">
            <a:noFill/>
          </a:ln>
        </p:spPr>
      </p:pic>
      <p:pic>
        <p:nvPicPr>
          <p:cNvPr id="119" name="bus17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362320" cy="1716120"/>
          </a:xfrm>
          <a:prstGeom prst="rect">
            <a:avLst/>
          </a:prstGeom>
          <a:ln w="0">
            <a:noFill/>
          </a:ln>
        </p:spPr>
      </p:pic>
      <p:pic>
        <p:nvPicPr>
          <p:cNvPr id="120" name="penciline" descr=""/>
          <p:cNvPicPr/>
          <p:nvPr/>
        </p:nvPicPr>
        <p:blipFill>
          <a:blip r:embed="rId3"/>
          <a:stretch/>
        </p:blipFill>
        <p:spPr>
          <a:xfrm>
            <a:off x="2438280" y="4495680"/>
            <a:ext cx="3962520" cy="35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40E5-8948-4C37-8E07-A8A68D30D45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95B3F8-F1AE-470E-A54B-67973C6242F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Sample of Presentations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inology and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presentations about 802.3x limitations and suggested extensions (as well as other mechanis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s on MPEG, QoS, LAN/WAN interoperability and other related to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s on draft PAR and 5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36D6-F871-4C90-86CF-3D1654009A5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DDF193-DE92-48EB-AF34-8B9E8A1B412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Some Proposals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ching LANs to wide-area flow contr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Jim Mollenauer - Technical Strategy Associ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EG Tutorial and QoS requir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on Pannell – I-Cub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ural Enhancements to 802.3x Flow Contro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n Macleod – Vertex Networ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ow Control Issues for Gb Ethern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Jeff Lynch/Clark Jeffries/Metin Aydemir - IB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ign Issues for Enhanced Flow Contro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n Macleod – Vertex Network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A4B5-F283-4724-B400-8AD907A3117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99529C-29AD-4027-A8C9-A4FB4374BD2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Interaction with the IETF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 formal letter to Scott Bradner after discussing it on the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volunteers participated in the IETF meeting of Dec 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 and established working relationship with chairs of relevant IETF working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ited Scott Bradner to an IEEE 802 meeting (March 99 - Aust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942C-4F04-4935-82C7-F6DB8E3EB6C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7A1C6D-8AC2-4973-8588-E17AE91E452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IETF Position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ested in the QoS work going on in the IEEE 802 study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rned about the interaction of L2 flow control with L4 flow control of T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know if it would help or h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much work done in that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Conclusion: Not enough info in this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7F8D-553F-4A98-A0DD-B178E33F026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4AE92B-7D84-4B48-86D3-BB000CF5BFA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Concerns raised in the IEEE 802 Committee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cal Concer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ehension on interaction of L2 flow control with that of L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rn about TCP operation if packet discard were avoi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share work of the study group with the IET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C6F7-D90D-4411-A824-45F9B96068D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B223C5-4482-48E2-B985-B34C4DC8E90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Other Concerns raised in the IEEE 802 Committee ...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l Concer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oS and flow control still need a lot of analysis and research before establishing a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 not a research organization for doing such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A201-5805-49DE-93F3-6389D451A26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60C11E-50E9-453E-A116-244D013E7BD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60199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E-Mail Reflector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: stds-802-qos-fc@ieee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 150 subscri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o be added to the ref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an e-mail containing the li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cribe stds-802-qos-fc &lt;your e-mail addres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domo@majordomo.ieee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238880" y="2209680"/>
            <a:ext cx="1538280" cy="167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3415-4BEC-4BDF-BC0E-4568A913DBC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7BDB2-A95B-40A9-9DD3-94439EA6DBC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2514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Web Site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grouper.ieee.org/groups/802/QOSF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ed to the IEEE 802 WG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group Presentations po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238880" y="3809880"/>
            <a:ext cx="1257480" cy="111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5AED-EF28-430F-A808-2DD94644A01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E0CE14-07EB-4ADA-BC06-A20F705B63A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Formation of the </a:t>
            </a:r>
            <a:br>
              <a:rPr sz="3600"/>
            </a:b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QoS/FC ECSG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 chartered an Executive Committee Study Group (ECSG) to look into establishing an IEEE 802 standard for Quality of Service and flow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aled Amer appointed as the Chair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of March 99 there were 150 members representing more than 50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hndshake2" descr=""/>
          <p:cNvPicPr/>
          <p:nvPr/>
        </p:nvPicPr>
        <p:blipFill>
          <a:blip r:embed="rId1"/>
          <a:stretch/>
        </p:blipFill>
        <p:spPr>
          <a:xfrm>
            <a:off x="6905520" y="4267080"/>
            <a:ext cx="2238480" cy="165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1C58-3479-41D8-9C1A-D38C80A5D50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E2A337-DAC8-4E8C-BCE1-5A88E8C9D9C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For more Information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905120" y="1676520"/>
            <a:ext cx="45720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Khaled A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 Number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949) 552-11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haledamer@usa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hone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860400" cy="12193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33520" y="3886200"/>
            <a:ext cx="961920" cy="84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3CE5-F1D4-49CB-A86F-AD62EE2E041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C6FADE-6199-408C-B590-66AE50BB96D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Backup Slides with more info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66"/>
                </a:solidFill>
                <a:latin typeface="Times New Roman"/>
              </a:rPr>
              <a:t>Defining the problem</a:t>
            </a:r>
            <a:endParaRPr b="1" i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320" y="2361960"/>
            <a:ext cx="90676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olume, mix and # of sources of network traffic are ris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fusion of long, high speed connections without slow start mechanisms and long round trip times will bring new LAN management problem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creasing volume of LAN traffic, coupled with uncontrolled external sources will result in an increase in the variability of LAN demand/util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7049-5B71-45D5-BFDC-0D86A63100A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9426BE-D7B5-4043-9B50-1BB003A83ED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66"/>
                </a:solidFill>
                <a:latin typeface="Times New Roman"/>
              </a:rPr>
              <a:t>Refining the problem</a:t>
            </a:r>
            <a:endParaRPr b="1" i="1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this represent a probl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does it occ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does it occ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options for managing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trade-offs in selection a management op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the management approach wor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898A-A8BF-44DF-A563-D2C80C53AA1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F1208F-DED4-4F84-AE43-C3C9F6898DA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Study Group Focus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ment of conges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hancements to current FC (Flow control)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rvation of QoS (Quality of Servic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ed for time-sensitive ap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ion of low priority data against loss and undue de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/WAN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Times New Roman"/>
              </a:rPr>
              <a:t>Request for Contributions in these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5C51-F1AC-4019-85F0-E113C526459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5D7226-4E02-413C-996E-0C4C73B7715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Congestion Management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802.3x doesn’t go far enoug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vides framework for extension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low Control can be improved to hand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ead of line bloc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One flow is currently able to impede another flo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eed to differentiate flow control on a per flow bas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ioritiz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ulti-media will encounter unpredictable delay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Flow control needs to be able to differentiate prioriti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F97D-4CB2-4D39-9714-2F736F5C3B7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FEFCA4-3068-4DAC-A11E-35CBBFA1B82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Preservation of QoS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s interact with A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DSL increases ATM to the 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ation of Q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n’t lose QoS just because we came into 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d be a motivation for ATM to penetrate LAN strong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s interact with time sensitive ap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mechanism to communicate QoS needs to lower LAN 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E010-B5FC-4CE4-8778-68A2F4244C6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AE8BE-9085-48AD-A9E6-B034367725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Protection of traditional </a:t>
            </a:r>
            <a:br>
              <a:rPr sz="4400"/>
            </a:b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(low priority) data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g increase of time sensitive traff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s deployment of Cable modem and xDSL creating appetite for time sensitive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liferation of these apps into the 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ed UDP applications will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low start (instant ramp u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tial congestion effecting tradition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 overflow, data loss, retrans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82F7-F731-4BEF-8B5F-6CAC64E6F81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5BE3F9-0200-46F6-8DAB-3470F97627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LAN/WAN Interoperability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N has its own QoS and Flow Control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LAN/WAN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sential interoperability issue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services should be ubiquit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02F2-BB57-4B10-96F8-43E9B9B89EB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6CF144-9184-46AA-823E-E4A2CFCD161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Why do we care?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issues impact 802 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802 atten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 where the work should be done in 8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develop solutions for these issues before they develop into network cris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066F-70A4-4EC8-B4C9-BF7D9DEEC6C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6E1188-56C8-466E-ADE9-28A8AB558BE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Trends in Networks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ss deployment of High speed WAN links injecting traffic into 802 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D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ble Mod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P high speed conne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amatic increase in time-sensitive traff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oS guarantee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es not follow the slow start mechanism of T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disrupt data traffic on LANs causing buffer overflows, packet loss, retransmissions and severe performance degra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8951-133F-4FE2-B78F-D85B3784000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93B62E-20C1-4E85-BF3E-090338CB21E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Challenge Statement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12960" y="476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905120"/>
            <a:ext cx="78487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ey challenge is loss and unacceptable delay/delay jitter of frames which is due to congestion caus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Mismat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subscri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on with high bandwidth                                      fast start data str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0120" y="3124080"/>
            <a:ext cx="1130040" cy="16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935F-55DC-4E66-B4B7-BAC562BC6D4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D66B3B-BBCC-4891-95B3-84A2DD8E407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Objective Statement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lnSpc>
                <a:spcPct val="1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tudy the potential of developing             an IEEE 802 standard in order to facilitate   the addition of new kinds of traffic over 802 networks, including real-time voice and video, while maintaining classic datagram service.This standard is intended to work with relevant IETF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0120" y="182880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6D51-4436-4B8A-9F7B-0C51DFB322F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D08B06-A7F2-4B2B-94B1-004A7A5D43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Basic Approach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effective method of meeting 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sioning the LAN with ample      bandwid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enhanced Layer 2 flow control, including means of differentiating service for various classes of traff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162920" y="2666880"/>
            <a:ext cx="1450800" cy="152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6442-9BD3-4D57-BCC7-235ADB39DDE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BB9F23-2069-4DBB-BD49-D8A734B53C9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Scope of Work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posed scope is to be limited to link-by-link QoS and flow control, since it is anticipated that end-to-end mechanisms would be inappropriate for IEEE 802 to defin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posed scope is to be further limited to packet-by-packet mechanisms, since control of specification of ‘Flows’ or ‘Virtual Connections’ or ‘Sessions’ would be outside the scope of IEEE 802’s Layer 2 activ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0990-5AD8-4725-921B-1523E3B70F4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AB0543-A77E-4C84-AE9C-D24D9328269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Scope of Work ...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s for Layer 3 QoS (such as the IETF’s efforts) should be reviewed for possible interactions with IEEE 8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Layer 3 QoS efforts might benefit from Layer 2 QoS services and interface, coordinated efforts may be warra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836D-9137-42DD-8425-2E336EA3EE9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9A629C-0032-4B71-92FC-6C0981F0776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Example of Challenge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P streams that do not follow the TCP slow start mechanism, which are being used in numerous multimedia and video conferencing appl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FFC2-5809-4ABE-B154-2501D086ACA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530E61-CA27-4280-BD4A-CB136F747D9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8T20:31:52Z</dcterms:created>
  <dc:creator>Khaled Amer</dc:creator>
  <dc:description/>
  <dc:language>en-US</dc:language>
  <cp:lastModifiedBy>khaled amer</cp:lastModifiedBy>
  <cp:lastPrinted>1999-03-07T05:17:58Z</cp:lastPrinted>
  <dcterms:modified xsi:type="dcterms:W3CDTF">2000-07-07T17:17:20Z</dcterms:modified>
  <cp:revision>214</cp:revision>
  <dc:subject/>
  <dc:title>General Info on Qos-FC Study Group</dc:title>
</cp:coreProperties>
</file>