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903B-CBDC-40AD-BA45-D215AC6A4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C0F6-405A-4CBE-BD0B-F72E5F5B3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3906-7B49-4F88-BBB3-F8E87F18F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DBD4-716A-42F0-88B0-B75FAEFE4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9E50-641D-4D03-BEEF-4068F24C1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B8C7-EEE3-4233-8F86-EDCEA3D51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7923-B510-4BA2-AE34-C1C709B2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0A4D-EB50-491E-8A41-75D79A8FB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BE0F-F9FC-41D1-9FF3-83CF53F33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29A3-4B39-4E6D-B748-5475F4D8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E018-2EAA-48D3-8144-AB281CC4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C207-892C-4F39-839D-3C892EEA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15,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ve Shellhammer, Symbol Techn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F8AF6F3-8CC5-480B-9DCC-A8EA1E490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088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Task Group Char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for a Coexistence Task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of “Coexisten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pe of Task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ter of Task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Group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2D2D-D8E8-4E0C-9E14-555D47EE653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Traffic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the data traffic flow based upon different application scenarios for both the WLAN and WPAN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ce traf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ehouse data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deo &amp;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4A9D-E747-4FA2-A6E3-9BA79CA44E7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 Layer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the WLAN and WPAN MAC lay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e that with the Data Traffic models to determine when each of the networks are transmitting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DCE6-262B-4EDB-95D8-C336E3B28E7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F Propagation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RF signal power levels at the different WPAN and WLAN nodes based on an RF propagation mod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different application scenarios and physical distribution of devic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C413-45A2-4364-999F-D1C04EFFB6B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ng together the four parts of the model to predict the impact on the WPAN and WLAN net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through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lat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C77B-FE35-46A9-93CD-BAB6F0FA227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existence Model will likely require work in all of the following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likely need to cross check using these different tools to verify the accuracy of the Coexistenc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6D95-6FE0-4146-9682-0CD8C84C3A5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Task Group P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previously performed resear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 Teams to work the different areas of the Coexistence Mod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out what is the best approach to model the four areas of the mod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out what is the best method to synthesize the four areas of the mod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the network performance metrics we plan to 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494E-5270-4D1C-BCAB-C122FF54233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ordination with 802.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articular we need to find a way to have some members of 802.11 participate in the Task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unte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BB71-EFBE-49D8-B286-F5B53FF8E5C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ed for Coexistence Task Gro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important that IEEE 802.15 WPAN devices coexist with other wireless devices in the unlicensed frequency b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articular it is very important that 802.15 WPAN devices coexist with IEEE 802.11 WLAN de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1FE2-18BC-4762-BBC1-8DEAAC877A1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finition of Coexist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wireless devices are said to “coexist” if they can be collocated without significantly impacting the performance of any of these de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A53F-54FC-4F6F-8235-5C3983C341E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roper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EEE currently defines three levels of interope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ly exchanging two interoperable devices causes no damage to the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 to our definition of coexis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operable devices can exchang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allow but not require interoperability as a coexistence mechan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3A15-1D28-4E1E-ABE4-3F6B9B49F25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pe of Coexistence Task Gro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al will be to address coexistence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802.15 WPAN with any 802.11 W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802.15 WPAN with any other 802.15 WPAN (assuming there will be more than o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802.15 WPAN with selected other devices in the same band (e.g. HomeRF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3A2A-3599-45FD-8E3F-EBCA0BD79A8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Task Group Char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ree Ph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a Coexistenc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 Recommended Practices to for 802.15 and 802.11 to facilitate coexis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y suggest modifications to the 802.15 and 802.11 standards to enhance coexis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9304-356C-43FE-A83C-06CBAEB83F6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urpose of this model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understand under what circumstance there is a coexistence problem and under what circumstances there is not a prob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velop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upporting evid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justify the recommended suggested practices and possible standards modif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EFB5-3840-4DCA-AAA7-E1102354CED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2613000">
            <a:off x="3428640" y="2868480"/>
            <a:ext cx="2133720" cy="2133720"/>
          </a:xfrm>
          <a:prstGeom prst="rect">
            <a:avLst/>
          </a:prstGeom>
          <a:solidFill>
            <a:srgbClr val="ff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1840" y="1954080"/>
            <a:ext cx="25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 Layer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5640" y="3706920"/>
            <a:ext cx="26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 Layer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080" y="3657600"/>
            <a:ext cx="26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Traffic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5459400"/>
            <a:ext cx="30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F Propaga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00040" y="3733920"/>
            <a:ext cx="26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existenc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05BF-93A5-4606-BBC3-461065FF0C0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s of the 802.11 and 802.15 PHY layers which will predict the impact of mutual interference when multiple devices are operating simultaneously, based upon given signal power leve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59FC-B9FE-4696-9617-19872EBEBA3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0T15:27:50Z</dcterms:created>
  <dc:creator>Steve Shellhammer</dc:creator>
  <dc:description>99/xxxr0</dc:description>
  <dc:language>en-US</dc:language>
  <cp:lastModifiedBy>Steve Shellhammer</cp:lastModifiedBy>
  <cp:lastPrinted>1998-02-10T13:28:06Z</cp:lastPrinted>
  <dcterms:modified xsi:type="dcterms:W3CDTF">1999-09-15T15:57:02Z</dcterms:modified>
  <cp:revision>45</cp:revision>
  <dc:subject>IEEE 802.15 Coexistence Charter</dc:subject>
  <dc:title>No Slide Title</dc:title>
</cp:coreProperties>
</file>