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5"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6"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3"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4"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5"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6"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4"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9"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4"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5"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7"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8"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9"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3"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210960" y="6583320"/>
            <a:ext cx="457200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E891C881-5A2E-4820-9B66-B70BA64F0533}" type="slidenum">
              <a:rPr b="0" lang="en-US" sz="900" spc="-1" strike="noStrike">
                <a:solidFill>
                  <a:srgbClr val="000000"/>
                </a:solidFill>
                <a:latin typeface="Rotis Sans Serif for Nokia"/>
              </a:rPr>
              <a:t>&lt;number&gt;</a:t>
            </a:fld>
            <a:r>
              <a:rPr b="0" lang="en-US" sz="900" spc="-1" strike="noStrike">
                <a:solidFill>
                  <a:srgbClr val="000000"/>
                </a:solidFill>
                <a:latin typeface="Rotis Sans Serif for Nokia"/>
              </a:rPr>
              <a:t>       FILENAMs.PPT/ DATE / NN</a:t>
            </a:r>
            <a:endParaRPr b="0" lang="en-US" sz="900" spc="-1" strike="noStrike">
              <a:solidFill>
                <a:srgbClr val="000000"/>
              </a:solidFill>
              <a:latin typeface="Rotis Sans Serif for Nokia"/>
            </a:endParaRPr>
          </a:p>
        </p:txBody>
      </p:sp>
      <p:sp>
        <p:nvSpPr>
          <p:cNvPr id="2"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66672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114768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802 Handoff ECSG</a:t>
            </a:r>
            <a:br>
              <a:rPr sz="3200"/>
            </a:br>
            <a:r>
              <a:rPr b="1" lang="en-US" sz="3200" spc="-1" strike="noStrike">
                <a:solidFill>
                  <a:srgbClr val="000000"/>
                </a:solidFill>
                <a:latin typeface="Rotis Sans Serif for Nokia"/>
              </a:rPr>
              <a:t>Comment Resolution</a:t>
            </a:r>
            <a:endParaRPr b="1" lang="en-US" sz="3200" spc="-1" strike="noStrike">
              <a:solidFill>
                <a:srgbClr val="000000"/>
              </a:solidFill>
              <a:latin typeface="Rotis Sans Serif for Nokia"/>
            </a:endParaRPr>
          </a:p>
        </p:txBody>
      </p:sp>
      <p:sp>
        <p:nvSpPr>
          <p:cNvPr id="40" name="PlaceHolder 2"/>
          <p:cNvSpPr>
            <a:spLocks noGrp="1"/>
          </p:cNvSpPr>
          <p:nvPr>
            <p:ph/>
          </p:nvPr>
        </p:nvSpPr>
        <p:spPr>
          <a:xfrm>
            <a:off x="422280" y="1523520"/>
            <a:ext cx="8299440" cy="480060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AR and 5 Criteria exposed to EC and WGs for review and approval</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ments received from 802.1 and 802.16 by 5.00pm Tuesday.</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rmal comments from 802.16</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Informal comments received during meeting with 802.1 and 802.16</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ll comments, both formal and informal address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1 Comment received from Howard Frazier during Monday EC meeting</a:t>
            </a:r>
            <a:endParaRPr b="0" lang="en-US" sz="2400" spc="-1" strike="noStrike">
              <a:solidFill>
                <a:srgbClr val="000000"/>
              </a:solidFill>
              <a:latin typeface="Rotis Sans Serif for Nokia"/>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6</a:t>
            </a:r>
            <a:endParaRPr b="1" lang="en-US" sz="3600" spc="-1" strike="noStrike">
              <a:solidFill>
                <a:srgbClr val="000000"/>
              </a:solidFill>
              <a:latin typeface="Rotis Sans Serif for Nokia"/>
            </a:endParaRPr>
          </a:p>
        </p:txBody>
      </p:sp>
      <p:sp>
        <p:nvSpPr>
          <p:cNvPr id="5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Lacks Support for Media Specific Optimizations</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generic solution across several different interfaces may not be able to take advantage of specific efficient features provided by an interface</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 Media specific optimizations should be supported</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y making elements in the standard extensible, we enable media specific optimizations to be created.</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We are not precluding media specific optimizations from being included in this specification</a:t>
            </a:r>
            <a:endParaRPr b="0" lang="en-US" sz="2400" spc="-1" strike="noStrike">
              <a:solidFill>
                <a:srgbClr val="000000"/>
              </a:solidFill>
              <a:latin typeface="Rotis Sans Serif for Nokia"/>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228240"/>
            <a:ext cx="8271000" cy="3049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Comment 7</a:t>
            </a:r>
            <a:endParaRPr b="1" lang="en-US" sz="3200" spc="-1" strike="noStrike">
              <a:solidFill>
                <a:srgbClr val="000000"/>
              </a:solidFill>
              <a:latin typeface="Rotis Sans Serif for Nokia"/>
            </a:endParaRPr>
          </a:p>
        </p:txBody>
      </p:sp>
      <p:sp>
        <p:nvSpPr>
          <p:cNvPr id="60" name="PlaceHolder 2"/>
          <p:cNvSpPr>
            <a:spLocks noGrp="1"/>
          </p:cNvSpPr>
          <p:nvPr>
            <p:ph/>
          </p:nvPr>
        </p:nvSpPr>
        <p:spPr>
          <a:xfrm>
            <a:off x="422280" y="685440"/>
            <a:ext cx="8299440" cy="5791320"/>
          </a:xfrm>
          <a:prstGeom prst="rect">
            <a:avLst/>
          </a:prstGeom>
          <a:noFill/>
          <a:ln w="0">
            <a:noFill/>
          </a:ln>
        </p:spPr>
        <p:txBody>
          <a:bodyPr lIns="90360" rIns="90360" tIns="44280" bIns="44280" anchor="t">
            <a:normAutofit fontScale="99000"/>
          </a:bodyPr>
          <a:p>
            <a:pPr marL="278280" indent="0" algn="ctr">
              <a:lnSpc>
                <a:spcPct val="7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Duplication of work in the IETF</a:t>
            </a:r>
            <a:endParaRPr b="0" lang="en-US" sz="18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There is some concern that the PAR scope potentially encroaches upon efforts currently within 802 such as 802.11f and 802.16e as well as outside 802 (e.g., IETF).  Need to more clearly define the limits of the effort (e.g., Layer 2.5 and above or Layer 2.5 only, etc.).</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Insert new 2nd paragraph under scope: “The standard will deal with upper layer issues (above PHY and MAC layers) while describing primitives for communication between upper layers (L3 and above) and MAC layer to provide services of authentication, services authorization, optimized selection of network attachment points, etc.”</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Delete: The Standard shall also specify a means to detect and select network attachment points or optimize the detection and selection of network attachment points.</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It is desirable for the PAR to emphasize the definition of triggers and QoS flow definitions rather than message passing mechanisms and media independent access point detection mechanisms. </a:t>
            </a:r>
            <a:endParaRPr b="0" lang="en-US" sz="1400" spc="-1" strike="noStrike">
              <a:solidFill>
                <a:srgbClr val="000000"/>
              </a:solidFill>
              <a:latin typeface="Rotis Sans Serif for Nokia"/>
            </a:endParaRPr>
          </a:p>
          <a:p>
            <a:pPr marL="278280" indent="-278280">
              <a:lnSpc>
                <a:spcPct val="7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Response</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Accept-Modify</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Scope needs to be 5 lines. Text will be added to 5 criteria.</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It is the intention to align activities with 802.11k and the IETF such that such overlap does not occur. Formal liasons may be used to achieve this.</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We do not provide services of authorization or authentication, so we cannot put that in the scope, however we do optimize selection of network attachment points. Other standards define these services (E.G. EAP and 802.1X)</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We expect that service flow definitions would be represented in the information base that is to be defined in the specification. It is this information base that is called out in the PAR.</a:t>
            </a:r>
            <a:endParaRPr b="0" lang="en-US" sz="1400" spc="-1" strike="noStrike">
              <a:solidFill>
                <a:srgbClr val="000000"/>
              </a:solidFill>
              <a:latin typeface="Rotis Sans Serif for Nokia"/>
            </a:endParaRPr>
          </a:p>
          <a:p>
            <a:pPr marL="278280" indent="-278280">
              <a:lnSpc>
                <a:spcPct val="7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Resolution</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Delete “</a:t>
            </a:r>
            <a:r>
              <a:rPr b="0" lang="en-US" sz="1400" spc="-1" strike="noStrike">
                <a:solidFill>
                  <a:srgbClr val="000000"/>
                </a:solidFill>
                <a:latin typeface="Rotis Sans Serif for Nokia"/>
              </a:rPr>
              <a:t>The Standard shall also specify a means to detect and select network attachment points or optimize the detection and selection of network attachment points”</a:t>
            </a:r>
            <a:endParaRPr b="0" lang="en-US" sz="14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Insert in 5 criteria </a:t>
            </a:r>
            <a:r>
              <a:rPr b="0" lang="en-US" sz="1400" spc="-1" strike="noStrike">
                <a:solidFill>
                  <a:srgbClr val="000000"/>
                </a:solidFill>
                <a:latin typeface="Rotis Sans Serif for Nokia"/>
              </a:rPr>
              <a:t>“</a:t>
            </a:r>
            <a:r>
              <a:rPr b="0" lang="en-US" sz="1600" spc="-1" strike="noStrike">
                <a:solidFill>
                  <a:srgbClr val="000000"/>
                </a:solidFill>
                <a:latin typeface="Rotis Sans Serif for Nokia"/>
              </a:rPr>
              <a:t>This standard will provide services both across an 802 link and to upper layers to</a:t>
            </a:r>
            <a:endParaRPr b="0" lang="en-US" sz="16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Facilitate the optimization of  detection and selection of networks</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a source of extensible and semantically defined information to facilitate optimized handover decision making</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a mechanism to access this information over an 802 link.</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triggers to upper layers</a:t>
            </a:r>
            <a:endParaRPr b="0" lang="en-US" sz="1200" spc="-1" strike="noStrike">
              <a:solidFill>
                <a:srgbClr val="000000"/>
              </a:solidFill>
              <a:latin typeface="Rotis Sans Serif for Nokia"/>
            </a:endParaRPr>
          </a:p>
          <a:p>
            <a:pPr lvl="2" marL="1136160" indent="0">
              <a:lnSpc>
                <a:spcPct val="7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t>
            </a:r>
            <a:endParaRPr b="0" lang="en-US" sz="1000" spc="-1" strike="noStrike">
              <a:solidFill>
                <a:srgbClr val="000000"/>
              </a:solidFill>
              <a:latin typeface="Rotis Sans Serif for Nokia"/>
            </a:endParaRPr>
          </a:p>
          <a:p>
            <a:pPr lvl="2" marL="1136160" indent="0">
              <a:lnSpc>
                <a:spcPct val="7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8</a:t>
            </a:r>
            <a:endParaRPr b="1" lang="en-US" sz="3600" spc="-1" strike="noStrike">
              <a:solidFill>
                <a:srgbClr val="000000"/>
              </a:solidFill>
              <a:latin typeface="Rotis Sans Serif for Nokia"/>
            </a:endParaRPr>
          </a:p>
        </p:txBody>
      </p:sp>
      <p:sp>
        <p:nvSpPr>
          <p:cNvPr id="6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urpose Too Long</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urpose Too Long</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place Purpose with</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t>
            </a:r>
            <a:r>
              <a:rPr b="0" lang="en-US" sz="1800" spc="-1" strike="noStrike">
                <a:solidFill>
                  <a:srgbClr val="000000"/>
                </a:solidFill>
                <a:latin typeface="Rotis Sans Serif for Nokia"/>
              </a:rPr>
              <a:t>The purpose is to improve the user experience of mobile devices by facilitating handover between 802 networks whether or not they are of different media types, including both wired and wireless, where handover is not otherwise defined and to make it possible for mobile devices to perform seamless handover where the network environment supports it. These mechanisms may also be useable for handovers between 802 networks and non 802 networks. ”</a:t>
            </a:r>
            <a:endParaRPr b="0" lang="en-US" sz="1800" spc="-1" strike="noStrike">
              <a:solidFill>
                <a:srgbClr val="000000"/>
              </a:solidFill>
              <a:latin typeface="Rotis Sans Serif for Nokia"/>
            </a:endParaRPr>
          </a:p>
          <a:p>
            <a:pPr marL="281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a:t>
            </a:r>
            <a:endParaRPr b="1" lang="en-US" sz="3600" spc="-1" strike="noStrike">
              <a:solidFill>
                <a:srgbClr val="000000"/>
              </a:solidFill>
              <a:latin typeface="Rotis Sans Serif for Nokia"/>
            </a:endParaRPr>
          </a:p>
        </p:txBody>
      </p:sp>
      <p:sp>
        <p:nvSpPr>
          <p:cNvPr id="4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ments Received During 802.1 Meeting, Tuesday AM:</a:t>
            </a:r>
            <a:endParaRPr b="0" lang="en-US" sz="24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must be =&lt; 5 lines. Move text to 5 criteria</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too broad. Cannot claim or test conformance</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a:t>
            </a:r>
            <a:r>
              <a:rPr b="0" lang="en-US" sz="1200" spc="-1" strike="noStrike">
                <a:solidFill>
                  <a:srgbClr val="000000"/>
                </a:solidFill>
                <a:latin typeface="Rotis Sans Serif for Nokia"/>
              </a:rPr>
              <a:t>The scope of the standard must address the full range of upper layer handover strategies in common use.”</a:t>
            </a:r>
            <a:endParaRPr b="0" lang="en-US" sz="12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a:t>
            </a:r>
            <a:r>
              <a:rPr b="0" lang="en-US" sz="1200" spc="-1" strike="noStrike">
                <a:solidFill>
                  <a:srgbClr val="000000"/>
                </a:solidFill>
                <a:latin typeface="Rotis Sans Serif for Nokia"/>
              </a:rPr>
              <a:t>handover-capable upper layer entities (e.g. Mobile IP sessions)”</a:t>
            </a:r>
            <a:endParaRPr b="0" lang="en-US" sz="12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ullet gives all upper layer entities as options. Pick 1-2.</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re handover from dial up to cell supported? (Limit technologie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hrink scope as much as possible. Most STDs take 3 year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On security, figure out how information is opaque to you</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istinguish between L2 faults that need fixing and those which mean handover time</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ould you include link quality metrics in provided service?</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Limit scope, put more details in Objective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readth of purpose too long</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6</a:t>
            </a:r>
            <a:endParaRPr b="1" lang="en-US" sz="3600" spc="-1" strike="noStrike">
              <a:solidFill>
                <a:srgbClr val="000000"/>
              </a:solidFill>
              <a:latin typeface="Rotis Sans Serif for Nokia"/>
            </a:endParaRPr>
          </a:p>
        </p:txBody>
      </p:sp>
      <p:sp>
        <p:nvSpPr>
          <p:cNvPr id="4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802.16 comments received during meeting with 802.16, Tuesday AM</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itle may be misleadin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oes not enable Handover</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rovides trigger based information</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generic solution across several different interfaces may not be able to take advantage of specific efficient features provided by an interface</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uplication of work with IETF?</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request to socialize </a:t>
            </a:r>
            <a:endParaRPr b="0" lang="en-US" sz="2400" spc="-1" strike="noStrike">
              <a:solidFill>
                <a:srgbClr val="000000"/>
              </a:solidFill>
              <a:latin typeface="Rotis Sans Serif for Nokia"/>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6</a:t>
            </a:r>
            <a:endParaRPr b="1" lang="en-US" sz="3600" spc="-1" strike="noStrike">
              <a:solidFill>
                <a:srgbClr val="000000"/>
              </a:solidFill>
              <a:latin typeface="Rotis Sans Serif for Nokia"/>
            </a:endParaRPr>
          </a:p>
        </p:txBody>
      </p:sp>
      <p:sp>
        <p:nvSpPr>
          <p:cNvPr id="4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7000"/>
          </a:bodyPr>
          <a:p>
            <a:pPr marL="272520"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Formal 802.16 comments received Tuesday ~3.00pm</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here is some concern that the PAR scope potentially encroaches upon efforts currently within 802 such as 802.11f and 802.16e as well as outside 802 (e.g., IETF).  Need to more clearly define the limits of the effort (e.g., Layer 2.5 and above or Layer 2.5 only, etc.).</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nsert new 2nd paragraph under scope: “The standard will deal with upper layer issues (above PHY and MAC layers) while describing primitives for communication between upper layers (L3 and above) and MAC layer to provide services of authentication, services authorization, optimized selection of network attachment points, etc.”</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elete: The Standard shall also specify a means to detect and select network attachment points or optimize the detection and selection of network attachment points.</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t is desirable for the PAR to emphasize the definition of triggers and QoS flow definitions rather than message passing mechanisms and media independent access point detection mechanisms. </a:t>
            </a:r>
            <a:endParaRPr b="0" lang="en-US" sz="2000" spc="-1" strike="noStrike">
              <a:solidFill>
                <a:srgbClr val="000000"/>
              </a:solidFill>
              <a:latin typeface="Rotis Sans Serif for Nokia"/>
            </a:endParaRPr>
          </a:p>
          <a:p>
            <a:pPr marL="27252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1</a:t>
            </a:r>
            <a:endParaRPr b="1" lang="en-US" sz="3600" spc="-1" strike="noStrike">
              <a:solidFill>
                <a:srgbClr val="000000"/>
              </a:solidFill>
              <a:latin typeface="Rotis Sans Serif for Nokia"/>
            </a:endParaRPr>
          </a:p>
        </p:txBody>
      </p:sp>
      <p:sp>
        <p:nvSpPr>
          <p:cNvPr id="48" name="PlaceHolder 2"/>
          <p:cNvSpPr>
            <a:spLocks noGrp="1"/>
          </p:cNvSpPr>
          <p:nvPr>
            <p:ph/>
          </p:nvPr>
        </p:nvSpPr>
        <p:spPr>
          <a:xfrm>
            <a:off x="422280" y="609120"/>
            <a:ext cx="8299440" cy="571500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Size</a:t>
            </a:r>
            <a:endParaRPr b="0" lang="en-US" sz="24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must be =&lt; 5 lines. Move text to 5 criteria</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Norm Finn, Mick Seaman, Howard Frazier</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802.16</a:t>
            </a:r>
            <a:endParaRPr b="0" lang="en-US" sz="16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sponse</a:t>
            </a:r>
            <a:endParaRPr b="0" lang="en-US" sz="2000" spc="-1" strike="noStrike">
              <a:solidFill>
                <a:srgbClr val="000000"/>
              </a:solidFill>
              <a:latin typeface="Rotis Sans Serif for Nokia"/>
            </a:endParaRPr>
          </a:p>
          <a:p>
            <a:pPr marL="281160" indent="0">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	</a:t>
            </a:r>
            <a:r>
              <a:rPr b="0" lang="en-US" sz="1600" spc="-1" strike="noStrike">
                <a:solidFill>
                  <a:srgbClr val="000000"/>
                </a:solidFill>
                <a:latin typeface="Rotis Sans Serif for Nokia"/>
              </a:rPr>
              <a:t>Accept.</a:t>
            </a:r>
            <a:endParaRPr b="0" lang="en-US" sz="16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solution</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duce scope to:</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Rotis Sans Serif for Nokia"/>
              </a:rPr>
              <a:t>This standard defines extensible 802 media access independent mechanisms that enable the optimization of handover between heterogeneous 802 systems and between 802 systems and cellular systems</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dd to five criteria:</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This standards shall facilitate optimization of Mobile IP handovers, however this does not preclude the standard from being used to optimize handovers of other layer 3 protocols.</a:t>
            </a:r>
            <a:endParaRPr b="0" lang="en-US" sz="1200" spc="-1" strike="noStrike">
              <a:solidFill>
                <a:srgbClr val="000000"/>
              </a:solidFill>
              <a:latin typeface="Rotis Sans Serif for Nokia"/>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In order to facilitate optimized layer 3 handover, this standard shall also specify a means to detect and select network attachment points or optimize the detection and selection of network attachment points.</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Consideration will be made to ensure compatibility with the 802 architectural model including at least 802, 802.2, 802.1D, 802.1f, 802.1Q, and 802.1X.</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Consideration will be made to ensure that compatibility is maintained with 802 security mechanisms and that existing security is not compromised.</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Neither security algorithms nor security protocols shall be defined in the specification. This does not preclude the propagation of authentication or authorization information to support network detection and selection.</a:t>
            </a:r>
            <a:r>
              <a:rPr b="0" lang="en-US" sz="1800" spc="-1" strike="noStrike">
                <a:solidFill>
                  <a:srgbClr val="000000"/>
                </a:solidFill>
                <a:latin typeface="Rotis Sans Serif for Nokia"/>
              </a:rPr>
              <a:t> </a:t>
            </a: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2</a:t>
            </a:r>
            <a:endParaRPr b="1" lang="en-US" sz="3600" spc="-1" strike="noStrike">
              <a:solidFill>
                <a:srgbClr val="000000"/>
              </a:solidFill>
              <a:latin typeface="Rotis Sans Serif for Nokia"/>
            </a:endParaRPr>
          </a:p>
        </p:txBody>
      </p:sp>
      <p:sp>
        <p:nvSpPr>
          <p:cNvPr id="5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6000"/>
          </a:bodyPr>
          <a:p>
            <a:pPr marL="26964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Too Broad</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too broad. Cannot claim or test conformance</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a:t>
            </a:r>
            <a:r>
              <a:rPr b="0" lang="en-US" sz="1400" spc="-1" strike="noStrike">
                <a:solidFill>
                  <a:srgbClr val="000000"/>
                </a:solidFill>
                <a:latin typeface="Rotis Sans Serif for Nokia"/>
              </a:rPr>
              <a:t>The scope of the standard must address the full range of upper layer handover strategies in common use.”</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a:t>
            </a:r>
            <a:r>
              <a:rPr b="0" lang="en-US" sz="1400" spc="-1" strike="noStrike">
                <a:solidFill>
                  <a:srgbClr val="000000"/>
                </a:solidFill>
                <a:latin typeface="Rotis Sans Serif for Nokia"/>
              </a:rPr>
              <a:t>handover-capable upper layer entities (e.g. Mobile IP sessions)”</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hrink scope as much as possible. Most STDs take 3 years.</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Limit scope, put more details in Objectives</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ullet gives all upper layer entities as options. Pick 1-2.</a:t>
            </a:r>
            <a:endParaRPr b="0" lang="en-US" sz="2400" spc="-1" strike="noStrike">
              <a:solidFill>
                <a:srgbClr val="000000"/>
              </a:solidFill>
              <a:latin typeface="Rotis Sans Serif for Nokia"/>
            </a:endParaRPr>
          </a:p>
          <a:p>
            <a:pPr lvl="1" marL="639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69640" indent="-26964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6964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69640" indent="-26964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Delete</a:t>
            </a:r>
            <a:r>
              <a:rPr b="0" lang="en-US" sz="2400" spc="-1" strike="noStrike">
                <a:solidFill>
                  <a:srgbClr val="000000"/>
                </a:solidFill>
                <a:latin typeface="Rotis Sans Serif for Nokia"/>
              </a:rPr>
              <a:t> </a:t>
            </a:r>
            <a:r>
              <a:rPr b="0" lang="en-US" sz="1400" spc="-1" strike="noStrike">
                <a:solidFill>
                  <a:srgbClr val="000000"/>
                </a:solidFill>
                <a:latin typeface="Rotis Sans Serif for Nokia"/>
              </a:rPr>
              <a:t>“The scope of the standard must address the full range of upper layer handover strategies in common use.”</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See resolution #1, Mobile IP explicitly called out as the upper layer entity</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3</a:t>
            </a:r>
            <a:endParaRPr b="1" lang="en-US" sz="3600" spc="-1" strike="noStrike">
              <a:solidFill>
                <a:srgbClr val="000000"/>
              </a:solidFill>
              <a:latin typeface="Rotis Sans Serif for Nokia"/>
            </a:endParaRPr>
          </a:p>
        </p:txBody>
      </p:sp>
      <p:sp>
        <p:nvSpPr>
          <p:cNvPr id="5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Handover Between Non 802 systems Address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re handover from dial up to cell supported? (Limit technologies)?</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 that is between non 802 systems and out of scope.</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See resolution #1,</a:t>
            </a:r>
            <a:r>
              <a:rPr b="0" lang="en-US" sz="2400" spc="-1" strike="noStrike">
                <a:solidFill>
                  <a:srgbClr val="000000"/>
                </a:solidFill>
                <a:latin typeface="Rotis Sans Serif for Nokia"/>
              </a:rPr>
              <a:t> “</a:t>
            </a:r>
            <a:r>
              <a:rPr b="0" i="1" lang="en-US" sz="1600" spc="-1" strike="noStrike">
                <a:solidFill>
                  <a:srgbClr val="000000"/>
                </a:solidFill>
                <a:latin typeface="Rotis Sans Serif for Nokia"/>
              </a:rPr>
              <a:t>handover between heterogeneous 802 systems and between 802 systems and cellular systems”</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Thus scope changes to imply only 802-802 and 802-non 802, excluding non802-non802</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4</a:t>
            </a:r>
            <a:endParaRPr b="1" lang="en-US" sz="3600" spc="-1" strike="noStrike">
              <a:solidFill>
                <a:srgbClr val="000000"/>
              </a:solidFill>
              <a:latin typeface="Rotis Sans Serif for Nokia"/>
            </a:endParaRPr>
          </a:p>
        </p:txBody>
      </p:sp>
      <p:sp>
        <p:nvSpPr>
          <p:cNvPr id="5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urity</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On security, figure out how information is opaque to you</a:t>
            </a:r>
            <a:endParaRPr b="0" lang="en-US" sz="2400" spc="-1" strike="noStrike">
              <a:solidFill>
                <a:srgbClr val="000000"/>
              </a:solidFill>
              <a:latin typeface="Rotis Sans Serif for Nokia"/>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If information provided by an external source is encapsulated then it is opaque to us and would be transported without interpretation by anything defined in this standard.</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t all security information is necessarily opaque to us since this standard may define the semantics of security related information that is being propagat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 change</a:t>
            </a: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5</a:t>
            </a:r>
            <a:endParaRPr b="1" lang="en-US" sz="3600" spc="-1" strike="noStrike">
              <a:solidFill>
                <a:srgbClr val="000000"/>
              </a:solidFill>
              <a:latin typeface="Rotis Sans Serif for Nokia"/>
            </a:endParaRPr>
          </a:p>
        </p:txBody>
      </p:sp>
      <p:sp>
        <p:nvSpPr>
          <p:cNvPr id="5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isleading Title</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itle may be misleadin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oes not enable Handover</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rovides trigger based information</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	</a:t>
            </a: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hange “Media Independent Handover” to “Media Independent Handover Services”.</a:t>
            </a:r>
            <a:endParaRPr b="0" lang="en-US" sz="20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20:46:04Z</dcterms:created>
  <dc:creator>michaewi</dc:creator>
  <dc:description>Nokia Standard Presentation Template - LTR
v. 4 2000/01/05 Eric Beasley
Fixed RGB values for Nokia logo
NO Security Label</dc:description>
  <dc:language>en-US</dc:language>
  <cp:lastModifiedBy>David Johnston</cp:lastModifiedBy>
  <cp:lastPrinted>1999-04-27T06:51:51Z</cp:lastPrinted>
  <dcterms:modified xsi:type="dcterms:W3CDTF">2003-11-12T21:15:09Z</dcterms:modified>
  <cp:revision>12</cp:revision>
  <dc:subject/>
  <dc:title>PAR Comments Discussion</dc:title>
</cp:coreProperties>
</file>