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5A4-9010-4F7C-AF8A-738B7040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830-9951-40D3-9D83-513F9202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44B-FEDD-4E71-B273-5E5D938C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C8E-F564-4718-805B-F2B2F09E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D4C-9A6B-445A-A981-26CEB506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178-769E-40C9-8CE5-23AF4C1A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68B-305D-49DB-9EC9-42F07B4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914-797C-4022-BFB9-44CC8AA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88F-1839-4B0A-BA5E-47089651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A32-7BCF-4E0E-A105-E7E9995E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7A8-12BC-4229-9D66-134B5F7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E2D-58A8-4899-9810-E91A95F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660-0B25-4D08-9B87-88580312C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aboba-ieee802-rel-02.tx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/IEEE 802 Coordination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January 1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rizzle.com/~aboba/IEEE/coord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B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 development with IETF MIB Doctor re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guidelines often for IETF process, not mib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we have different guidelines for reviewing IEEE mib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esign review by assigned MIB Advisor? Default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/quality review (balloting) by another MIB Do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OIDs - assigned under ieee802 or by IA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 assignments cannot change once "releas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SMI change rules to maintain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xtension rules for enumerations, rang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recated and obsolete MIB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SCII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ib compilers; difficult to extract from PDF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or commenting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ublish as IETF RFC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A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ttribute id requests for IETF,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by IANA; reviewed by RADIU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 also use IANA/RADIUS WG revi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ssign and tell IANA about assig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AAA attribute extensions to ensur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EEE willing to recognize and enforce constra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compatibi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-IETF-ITU coord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uccessful work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nternet-drafts/draft-aboba-ieee802-rel-02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bree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! (more documents, WG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number of potential liais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cross-review of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omprehensive list of issues for further discu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up meetings with 802.1 and 802.11 scheduled this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meeting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default liai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progress on outstanding iss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i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aa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/HUB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BRIDGE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L2VPN WG/PWE3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RAD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CAP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1/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7/IPORPR,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n/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,15,16,20 mesh networking, roaming, fast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backplane/Entity MI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0 too early? But joint memb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EEE 802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ed Access via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 of understanding from 802 to I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scheduling to prevent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ietf-secretary, har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sues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A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work has been un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Bs done in the IEEE WGs, other in the IETF based on IEEE management clause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work done in IEEE WGs, other in the IETF based on RADIUS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specifications published as RFCs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nd 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EEE MIBs &amp; AAA attributes went through the IETF quality review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n maintaining Diameter/RADIUS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 syntax that won’t compile i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 fo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ke this happen in a more consistent and smooth man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TF has a New Work list, and a process for commenting on proposed new WG chart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published to SEC; comments to ietf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Rs to IE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evel is the response? To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t/Tony work thi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recently asked for IETF comment on the proposed Handoff ECSG char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new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existing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communication and interaction is direct participation at the WG leve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worked well, but sometimes it'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communicate before a WG is chartered yet (example: CAPWAP, Handoff ECSG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IEEE 802 Liaison requests that have not received a respo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points of contact within IEEE 802 and IETF when no more specific contact is available would be helpfu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ing IETF WGs Access to IEEE 802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te, access has been granted on a case by case basi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way to make this less of a "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"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, tracking occurs at the WG level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worked well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might occur prior to WG 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endencies seem to becoming more complex l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 documents IEEE 802 needs from 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IETF is depending on from IEEE 80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master list kept somewhere?No. Should we use a webpage for posting commun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dependencies up to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breaks, who do they cont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– tracked by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s circulated as I-Ds before sponsor ba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o mib 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as IEEE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5:02:46Z</dcterms:created>
  <dc:creator>james</dc:creator>
  <dc:description/>
  <dc:language>en-US</dc:language>
  <cp:lastModifiedBy>djohnst1</cp:lastModifiedBy>
  <dcterms:modified xsi:type="dcterms:W3CDTF">2004-01-14T00:57:13Z</dcterms:modified>
  <cp:revision>24</cp:revision>
  <dc:subject/>
  <dc:title>Tracking Dependencies</dc:title>
</cp:coreProperties>
</file>