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5640120" y="97200"/>
            <a:ext cx="6411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828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5359320" y="8984880"/>
            <a:ext cx="9223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3570387-55E2-4B75-9495-020B68DE7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concern of membership loss taking effect before November force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rm Limit document breaks out one paragraph from the original change to accommodate Bob Grow’s concern that it be voted separate (in case the entire fai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b O’hara wro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additional comments on 7.2 have not been addressed.  This clause now reads that the EC might hold some "veto" power after approval of a PAR by IEEE-SA SB.  Delete "When determined appropriate by the EC"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mmended changes from SA based on comments deferred to later time on last ball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chair and VC - What about everyone el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ll officers have to belong to S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G Char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WG/TAG rather than W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banding a WG/TAG that never produced a 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SA.  Announce teleconferences same as W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E290-BA0C-4694-97BF-1D972953B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4E65-33BA-4D3F-BEA4-27EC78BB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E281-6550-4B7C-A4A4-30034B20A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6ED8-288B-4312-865B-541D9A043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A5A6-1CAD-49BE-B577-F5B7794A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1D01-A088-4F58-B038-4FB33557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B7D0-5EFF-4605-8167-F3B22FF0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C6D2-C343-4EFD-8340-F101A590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DEA2-E258-4851-B395-E45A7F5A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C862-69CB-415B-AC92-0878F41F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3FBA-5BC3-447F-BC5C-DC10ED6E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9DBE-39BB-4C95-BB1F-05054CD5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DF1F-2CB9-4754-BDE3-4C63C1C451D9}" type="datetime5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029200" y="6474960"/>
            <a:ext cx="35812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ew Sherman, BAE Syste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7040" y="6476760"/>
            <a:ext cx="5284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6B71D87-5DD5-4606-99E8-267525C17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61480" y="396000"/>
            <a:ext cx="4008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VC1_10032006_Closing_EC_Motions_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tions Intern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r LMSC 1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Vice Chai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And supporting slides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BCF7-14F8-4769-BF26-1E0FC68BC74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168A22-BEB2-4952-811B-E0A7C30E5FD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s to Approve P&amp;P Rev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85EC-64A8-4CC4-9D9F-318E19DBEE5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065030-60BE-4978-B036-57D9ACBB202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 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 approve the proposed P&amp;P revision titled “WG Plenary” as described in the document titled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0-WG_Plenary_-_LMSC_P&amp;P_Revision_Propose Resolution_060305_r0.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98080" y="487692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97720" y="533412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ain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97720" y="58672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ta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91080" y="4876920"/>
            <a:ext cx="14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33600" y="5791320"/>
            <a:ext cx="90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n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7597-11B9-4024-96F7-288C404E590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459968-22E1-4C2C-945B-8E2BBB8D34B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ditorial re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ded to re-ballot more ‘extensive’ changes due to confusion in original bal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 additions based on recent comment re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seeking approval of text changes in original bal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known controversy with that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e text as in January ball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3C79-A0F9-4F5B-9EB3-07B740A3711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BA32F4-A3D2-44F6-871B-3CA754496B2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 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 approve the proposed P&amp;P revision titled “Editorial” as described in the document titled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0-Editorial_-_LMSC_P&amp;P_Revision_Ballot_060102_r0.pd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698080" y="487692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97720" y="533412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ain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697720" y="58672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ta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1080" y="4876920"/>
            <a:ext cx="14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33600" y="5791320"/>
            <a:ext cx="90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n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4531-A7F6-451F-9D0E-F67A890D798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CAB1BA-674E-40C5-9D48-3678E4956B4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s to Approve Balloting of P&amp;P Rev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B940-6708-40E4-9340-B8DC0CAEB01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D2E659-A3D8-4E5F-9F2B-F29534F8115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 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approve for distribution and executive committee ballot the P&amp;P Revision titled “Document Numbers” as described in the document titled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0-Document_Numbers_-_Proposed_LMSC_P&amp;P_Revision_Ballot_060305_r0.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39400" y="480060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639040" y="525780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ain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9040" y="571500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ta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4240" y="4724280"/>
            <a:ext cx="14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66760" y="5257800"/>
            <a:ext cx="90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n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032B-D632-465A-9D8B-6E81006C5C6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D7540A-3DB0-4035-9BE9-F2AFB77792E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ditorial re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llowing motion is to formally ballot Matthew Sherman’s more ‘extensive’ changes submitted as comments on the original ballot titled ‘Editorial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 additions based on recent comment re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E860-8478-4198-B4A1-5D634C5A8C1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277027-F683-4FE4-9A04-EC1763FC3FD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 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approve for distribution and executive committee ballot the P&amp;P Revision titled “Editorial 2” as described in the document titled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0-Editorial_2_-_Proposed_LMSC_P&amp;P_Revision_Ballot_060310_r0.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39400" y="480060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39040" y="525780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ain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39040" y="571500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ta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68920" y="5257800"/>
            <a:ext cx="14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791320"/>
            <a:ext cx="90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n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C079-344E-406B-B3CE-CFB53A03E74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8A694B-038E-40D2-8C74-2DA099231A5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01:50:24Z</dcterms:created>
  <dc:creator>mjsherman</dc:creator>
  <dc:description/>
  <dc:language>en-US</dc:language>
  <cp:lastModifiedBy>Version 2</cp:lastModifiedBy>
  <cp:lastPrinted>1998-02-10T13:28:06Z</cp:lastPrinted>
  <dcterms:modified xsi:type="dcterms:W3CDTF">2006-03-10T06:24:31Z</dcterms:modified>
  <cp:revision>132</cp:revision>
  <dc:subject/>
  <dc:title>PowerPoint Presentation</dc:title>
</cp:coreProperties>
</file>