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359320" y="8984880"/>
            <a:ext cx="9223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0549521-C709-43A7-B2D5-C3B1B3282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concern of membership loss taking effect before November force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 Limit document breaks out one paragraph from the original change to accommodate Bob Grow’s concern that it be voted separate (in case the entire fai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O’hara wr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additional comments on 7.2 have not been addressed.  This clause now reads that the EC might hold some "veto" power after approval of a PAR by IEEE-SA SB.  Delete "When determined appropriate by the EC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mmended changes from SA based on comments deferred to later time on last ball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chair and VC - What about everyone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ll officers have to belong to S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G Char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G/TAG rather than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banding a WG/TAG that never produced a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8512-8146-484C-986A-76494DC1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CF7-E945-4DAB-868B-BAC4445C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4FCB-96C3-4E4E-A111-03FDD5A5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83C-DFB0-40EF-A5C9-9F8B11B4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D49D-1928-4C3B-ACBF-6219DDB7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8627-9523-4CB1-8639-70CD1711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EA5-5B98-4BBD-B4A4-2591B40C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F3AC-1A9B-4D86-961C-B2701FF2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CA3-C7B6-4FF3-8A42-A30A0BCB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3CA-51E9-4561-88D1-109C6CE9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C75-0777-4AF8-983E-63AC959C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023F-AD81-4615-B5FF-2651244E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95EE-96ED-47B8-979D-0B326E0B8341}" type="datetime5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9200" y="6474960"/>
            <a:ext cx="35812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Sherman, BAE Syste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7040" y="6476760"/>
            <a:ext cx="5284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B896E9E-403D-4937-A25E-DF45B936A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61480" y="396000"/>
            <a:ext cx="400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VC1_10072006_Closing_EC_Motions_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ons Intern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LMSC 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Vice Cha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nd supporting slides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78B-D6A9-4CC7-8BE8-185B9C98DB9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9C6F9-BF42-4F65-BA32-C5F9A4B24C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 to Approve P&amp;P Re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6C5-E248-470D-9CD8-43C852DC9A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97E94-DB64-427A-9008-48D967D195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approve the P&amp;P revision titled “WG Plenary” as described in the file named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0-Editorial_2_-_LMSC_P&amp;P_Revision_Ballot_proposed_resolution_060628_r0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9240" y="487692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880" y="533412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880" y="58672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8880" y="4876920"/>
            <a:ext cx="45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 Matthew Sh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5200" y="5791320"/>
            <a:ext cx="30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: Stuart Ke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A0B-6BF5-4E40-88DB-4E3890EA12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8ACC1-2EAA-4E1A-95A7-00D9067383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approve the P&amp;P revision titled “Document Numbers” as described in the file named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0-Document_Numbers_-_LMSC_P&amp;P_Revision_Ballot_060430_r0.p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9240" y="487692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880" y="533412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8880" y="58672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8880" y="4876920"/>
            <a:ext cx="45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 Matthew Sh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5200" y="5791320"/>
            <a:ext cx="30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: Stuart Ke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68CD-3D17-4BD8-AFA5-84FAEE979B8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F13CD-3368-48DB-AF87-8D7B5D244F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 to Approve Balloting of P&amp;P Re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700-7F74-4632-80DA-C61D943FD7A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8BD9D-A94F-426E-B215-7B598B48EA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pprove for distribution and executive committee ballot the P&amp;P Revision titled “WG Voting Procedures” as described in the document title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-0-WG_Voting_Procedures-Proposed_P&amp;P_ballot_resolutions_r4_060720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9240" y="487692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880" y="533412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880" y="58672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8880" y="4876920"/>
            <a:ext cx="45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 Matthew Sh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5200" y="5791320"/>
            <a:ext cx="30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: Stuart Ke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37AB-B74E-4227-B4CB-E6D57A4C550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924C7-DF44-446E-A3C9-A134AF80B8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1:50:24Z</dcterms:created>
  <dc:creator>mjsherman</dc:creator>
  <dc:description/>
  <dc:language>en-US</dc:language>
  <cp:lastModifiedBy>Matthew Sherman</cp:lastModifiedBy>
  <cp:lastPrinted>1998-02-10T13:28:06Z</cp:lastPrinted>
  <dcterms:modified xsi:type="dcterms:W3CDTF">2006-07-21T02:35:12Z</dcterms:modified>
  <cp:revision>135</cp:revision>
  <dc:subject/>
  <dc:title>PowerPoint Presentation</dc:title>
</cp:coreProperties>
</file>