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EB0-B237-4358-9EA2-A2B71A65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370-3B6A-4866-BE82-F2CE8E1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2E5-CB73-4A06-8687-CAD66F8F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55B-0B89-49FC-A809-8BA6250F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81B-5CC9-4180-A8F3-73444D8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09D-3465-47F5-84E3-9A1F791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E20-E3E6-47D7-8762-70F60CB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C14-1DF2-49D1-AE7B-4AA02B0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1E2-EEB2-4A6A-9822-4FADFF0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428-7ED0-4D5F-913D-08E790B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83D-6D48-4701-A08C-6D189A1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58B-3908-453B-B527-E58F7D6A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193-192E-44F9-9E99-1332DD59AD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y forward on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existence tests for LA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ricsson, 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0" y="1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GPP TSG-RAN WG4 Meeting #77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4-158280 Anaheim, CA, USA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is way forward contain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General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parameter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im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on general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ests should be conductive tests for LA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xample of such test setup is given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schematic test setup"/>
          <p:cNvPicPr/>
          <p:nvPr/>
        </p:nvPicPr>
        <p:blipFill>
          <a:blip r:embed="rId1"/>
          <a:stretch/>
        </p:blipFill>
        <p:spPr>
          <a:xfrm>
            <a:off x="1332000" y="2924280"/>
            <a:ext cx="54529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cifying LBT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127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following requirements in 36.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B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LBT bandwidth will be 20MHz, as it is agreed so f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detection thresho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imum channel occupancy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measurement accuracy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he feasibility of the following test should be studied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Station should be able to assess whether the medium is busy or idle within X microseconds and with at least Y%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83800" y="6319800"/>
            <a:ext cx="70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arameters which depend on RAN1 decisions can be revisite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y to perform Energy detection, includes following tes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of energy detection threshold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um channel occupancy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bove tests will cover the parameters in previous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BT tests will ensure that LAA coexistence targets are met and hence fair coexistence with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4 will study the need  and complexity of introducing multi-node tests, which represent additional test compared to the essential LBT related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eeded, multi-node test can be initiated in performance part of the WI and may test coexistence wit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ireless systems using the spectrum, e.g. Wi-Fi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AA operators operating in the spectr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pl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ing time plan can be follow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421000"/>
          <a:ext cx="8209080" cy="2898720"/>
        </p:xfrm>
        <a:graphic>
          <a:graphicData uri="http://schemas.openxmlformats.org/drawingml/2006/table">
            <a:tbl>
              <a:tblPr/>
              <a:tblGrid>
                <a:gridCol w="2100240"/>
                <a:gridCol w="2863800"/>
                <a:gridCol w="3245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 part of WI (until December 20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part of WI (until June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T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s are documented in 36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 of actual test procedures to be defined and documented in 36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node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y of type of test and test procedure. Details of possible test procedures to be defined and docum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2:48:09Z</dcterms:created>
  <dc:creator>Liubo (Bo)</dc:creator>
  <dc:description/>
  <dc:language>en-US</dc:language>
  <cp:lastModifiedBy>Imadur Rahman</cp:lastModifiedBy>
  <dcterms:modified xsi:type="dcterms:W3CDTF">2015-11-20T19:50:30Z</dcterms:modified>
  <cp:revision>1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_ms_pID_72543">
    <vt:lpwstr>(3)GniobbBNRjZ0VK6WQo/j9+sIM1ORhom1BFaDt2RMKfo+D2URJ4upXEFx36fT4j+dif9JNsM0
JOPlYgI4mNsvPgVzAM3L9O/gcdxon2vDCUJJipeDapwpCyQVmuH9tOMX2J9Wf8/IYqvZtcLs
zYwx0AlvTXnP4kgQHw7jk9RzKwkep+dlt5AdOBeIyfSvVpcvjThwgJ7AVm9eCKYd7ZjBgQfl
ni+aI8W3x3w+1WDVvW</vt:lpwstr>
  </property>
  <property fmtid="{D5CDD505-2E9C-101B-9397-08002B2CF9AE}" pid="3" name="_new_ms_pID_725431">
    <vt:lpwstr>sRkoKR2Msp/7mlsK8RaGXhDu83mw+J5tLzyf8RVatNj/n/LJ4wUkLs
OjAFv+9U65pC+sYhfLeGHJj/KOWApCp0j2qzM2mnukEzvo2O9mW1KM0peOpjw8CsvCkIXBYN
yLz/9mOGrGh/EjH9VETJ5KTxHti6SZvQMS0RanDlcgh8afN+FvOgOnLLFEY57DXBB37CkvLg
el4H2g5OFRnO1JgQdCdoC7rXe5eATqIYWyxb</vt:lpwstr>
  </property>
  <property fmtid="{D5CDD505-2E9C-101B-9397-08002B2CF9AE}" pid="4" name="_new_ms_pID_725432">
    <vt:lpwstr>2Hpn+3n83aq05QX5zUwrqh3NjYqCwtLjpFjE
S9bROTOhADfyYceBfJ6lWVyfxMSIg6bgH/+kd1aHfGJpTpluOOXc5SFAPtE+2wPS1PzOTHQ6
t1n1rVfZO3TxLjwSQ+1RARTf73SOq8B60r7IVDeTzic=</vt:lpwstr>
  </property>
  <property fmtid="{D5CDD505-2E9C-101B-9397-08002B2CF9AE}" pid="5" name="sflag">
    <vt:lpwstr>1447703963</vt:lpwstr>
  </property>
</Properties>
</file>